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FFD-17C7-4C61-8EB5-1D54BB3B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DEF-0423-49BC-8646-B8C8671B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AD6-83B2-4138-ADD0-229B31E6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7E5-1FDA-4FD5-A2C5-C157B4EE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188-A6A3-41CF-966F-1E5A7C2B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CA8-C788-434E-90E0-047B546B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A48-6245-4834-8147-B057B446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B90-FFAA-4D08-B2D2-E3BCCE32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BFE-98AE-493D-AC41-3378B0FC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65C-DE4E-4828-8784-A4A12BDE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B47-11D0-4964-9261-ED229D4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C6C-BB1B-4651-BA08-F978D59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50EB-D8C9-4DCC-A88E-53A03A085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dvent Today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Advent means ‘the coming’ of someth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Advent is a period lasting FOUR Sundays (not weeks!) preparing for the celebration of Jesus’ birth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first Sunday of Advent also marks the beginning of the Christian Church's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Because the celebration is such an important event, Christians want to make themselves completely rea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http://www.woodlands-junior.kent.sch.uk/customs/Xmas/pics/birth.jpg"/>
          <p:cNvPicPr/>
          <p:nvPr/>
        </p:nvPicPr>
        <p:blipFill>
          <a:blip r:embed="rId1"/>
          <a:stretch/>
        </p:blipFill>
        <p:spPr>
          <a:xfrm>
            <a:off x="6629400" y="228600"/>
            <a:ext cx="2209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Comic Sans MS"/>
                <a:ea typeface="Arial Unicode MS"/>
              </a:rPr>
              <a:t>Why is the Advent Wreath so special to Christian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circle of the wreath reminds Christians of God, His eternity and endless mercy, which has no beginning or e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green of the wreath speaks of the hope that Chrisitans have in God, the hope of newness, of renewal, of eternal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Program Files\Microsoft Office\Clipart\Pub60Cor\so00610_.wmf"/>
          <p:cNvPicPr/>
          <p:nvPr/>
        </p:nvPicPr>
        <p:blipFill>
          <a:blip r:embed="rId1"/>
          <a:stretch/>
        </p:blipFill>
        <p:spPr>
          <a:xfrm>
            <a:off x="228600" y="228600"/>
            <a:ext cx="13622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cc99"/>
                </a:solidFill>
                <a:latin typeface="Comic Sans MS"/>
                <a:ea typeface="Arial Unicode MS"/>
              </a:rPr>
              <a:t>Why have four candles on the  Advent Wreath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four outer candles represent the period of waiting during the four Sundays of Ad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green of the wreath speaks of the hope that Christians have in God, the hope of newness, of renewal, of eternal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C:\Program Files\Microsoft Office\Clipart\standard\stddir1\bd00114_.wmf"/>
          <p:cNvPicPr/>
          <p:nvPr/>
        </p:nvPicPr>
        <p:blipFill>
          <a:blip r:embed="rId1"/>
          <a:stretch/>
        </p:blipFill>
        <p:spPr>
          <a:xfrm>
            <a:off x="380880" y="152280"/>
            <a:ext cx="816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cc99"/>
                </a:solidFill>
                <a:latin typeface="Comic Sans MS"/>
                <a:ea typeface="Arial Unicode MS"/>
              </a:rPr>
              <a:t>The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four</a:t>
            </a:r>
            <a:r>
              <a:rPr b="0" lang="en-GB" sz="4000" spc="-1" strike="noStrike">
                <a:solidFill>
                  <a:srgbClr val="00cc99"/>
                </a:solidFill>
                <a:latin typeface="Comic Sans MS"/>
                <a:ea typeface="Arial Unicode MS"/>
              </a:rPr>
              <a:t> traditional advent t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Candle of HOPE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Candle of PEACE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Candle of LOVE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he Candle of J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A fifth candle is sometimes lit in the middle to celebrate the birth of Je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:\Program Files\Microsoft Office\Clipart\standard\stddir4\so02065_.wmf"/>
          <p:cNvPicPr/>
          <p:nvPr/>
        </p:nvPicPr>
        <p:blipFill>
          <a:blip r:embed="rId1"/>
          <a:stretch/>
        </p:blipFill>
        <p:spPr>
          <a:xfrm>
            <a:off x="5943600" y="2971800"/>
            <a:ext cx="305424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CLASS ADVENT WRE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n pairs think about what your themes or preparations could be for this time/season write a list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round your hand on the green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long each finger write one of your advent themes/pr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Cut out and hand in/stick on card circle to make a big class advent wr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17"/>
          <p:cNvSpPr/>
          <p:nvPr/>
        </p:nvSpPr>
        <p:spPr>
          <a:xfrm>
            <a:off x="6727680" y="4869000"/>
            <a:ext cx="66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19"/>
          <p:cNvSpPr/>
          <p:nvPr/>
        </p:nvSpPr>
        <p:spPr>
          <a:xfrm>
            <a:off x="6727680" y="4944960"/>
            <a:ext cx="173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20"/>
          <p:cNvSpPr/>
          <p:nvPr/>
        </p:nvSpPr>
        <p:spPr>
          <a:xfrm>
            <a:off x="6423120" y="524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21" descr="C:\Program Files\Microsoft Office\Clipart\Pub60Cor\na02125_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00800" y="4800600"/>
            <a:ext cx="1547640" cy="1752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8:07:56Z</dcterms:created>
  <dc:creator>home</dc:creator>
  <dc:description/>
  <dc:language>en-US</dc:language>
  <cp:lastModifiedBy>Jacki Kratz</cp:lastModifiedBy>
  <dcterms:modified xsi:type="dcterms:W3CDTF">2011-11-30T13:41:19Z</dcterms:modified>
  <cp:revision>6</cp:revision>
  <dc:subject/>
  <dc:title>Advent Today</dc:title>
</cp:coreProperties>
</file>